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.wav" ContentType="audio/x-wav"/>
  <Override PartName="/ppt/media/end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805-65CF-4AE7-AAD3-942E897F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936-39CF-4C44-99F0-30A8AF81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2D9-5DA0-409F-8F54-90EA6157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529-52FB-40AC-893C-D482D357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F89-8A81-4EE2-89A8-9EBF537C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C51-C85B-42A8-84A0-2BEB91B4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41AD-D727-4542-A0E7-23716505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294-DDB7-4616-8B9C-4118E5D9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823-E987-4921-A9AA-13A79890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CCE-3446-4FCC-8A89-34D41277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926F-9F07-4752-B7B8-0AEAF5EF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BC5A-8817-4B05-B8FF-D2BD02F4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80CC-5111-4C40-90DE-D4D032232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end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286000"/>
            <a:ext cx="490536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Berlin Sans FB Demi"/>
              </a:rPr>
              <a:t>Who Am I?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Berlin Sans FB Demi"/>
              <a:ea typeface="Berlin Sans FB Demi"/>
            </a:endParaRPr>
          </a:p>
        </p:txBody>
      </p:sp>
    </p:spTree>
  </p:cSld>
  <p:transition spd="slow">
    <p:wipe dir="l"/>
    <p:sndAc>
      <p:stSnd>
        <p:snd r:embed="rId1" name="wh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371600"/>
            <a:ext cx="6172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imes New Roman"/>
              </a:rPr>
              <a:t>I enjoy playing with the cars and block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imes New Roman"/>
              </a:rPr>
              <a:t>Who am I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1295280"/>
            <a:ext cx="4419360" cy="448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sert Child’s Pictur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40080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nsert Child’s Nam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143000"/>
            <a:ext cx="6172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Times New Roman"/>
              </a:rPr>
              <a:t>I just discovered that painting is fun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Times New Roman"/>
              </a:rPr>
              <a:t>Who am I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1295280"/>
            <a:ext cx="4419360" cy="448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sert Child’s Pictur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640080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nsert Child’s Nam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828800"/>
            <a:ext cx="6172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ff"/>
                </a:solidFill>
                <a:latin typeface="Times New Roman"/>
              </a:rPr>
              <a:t>I really like to play with the block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ff"/>
                </a:solidFill>
                <a:latin typeface="Times New Roman"/>
              </a:rPr>
              <a:t>Who am I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19320" y="1295280"/>
            <a:ext cx="4419360" cy="448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sert Child’s Pictur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640080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nsert Child’s Nam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523880"/>
            <a:ext cx="6172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99"/>
                </a:solidFill>
                <a:latin typeface="Times New Roman"/>
              </a:rPr>
              <a:t>I love to play with the play dough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99"/>
                </a:solidFill>
                <a:latin typeface="Times New Roman"/>
              </a:rPr>
              <a:t>Who am I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1295280"/>
            <a:ext cx="4419360" cy="448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sert Child’s Pictur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640080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nsert Child’s Nam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43080" y="1828800"/>
            <a:ext cx="6172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I like using tools to fix thing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Who am I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19320" y="1295280"/>
            <a:ext cx="4419360" cy="448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sert Child’s Pictur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640080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nsert Child’s Nam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1905120"/>
            <a:ext cx="6172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 really like being at the art table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Who am I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47640" y="2514600"/>
            <a:ext cx="55627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ipe dir="l"/>
    <p:sndAc>
      <p:stSnd>
        <p:snd r:embed="rId1" name="e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640080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nsert Child’s Nam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1295280"/>
            <a:ext cx="4419360" cy="448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sert Child’s Pictur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1600200"/>
            <a:ext cx="6172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I think cars and trucks are really fun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Who am I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295280"/>
            <a:ext cx="4419360" cy="448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sert Child’s Pictur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640080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nsert Child’s Nam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676520"/>
            <a:ext cx="6172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ff"/>
                </a:solidFill>
                <a:latin typeface="Times New Roman"/>
              </a:rPr>
              <a:t>I like to ride on the sled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ff"/>
                </a:solidFill>
                <a:latin typeface="Times New Roman"/>
              </a:rPr>
              <a:t>Who am I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19320" y="1295280"/>
            <a:ext cx="4419360" cy="448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sert Child’s Pictur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640080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nsert Child’s Nam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2133720"/>
            <a:ext cx="6172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I like to work with the tool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Who am I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1295280"/>
            <a:ext cx="4419360" cy="448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sert Child’s Pictur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640080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Insert Child’s Name He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5:42:20Z</dcterms:created>
  <dc:creator>Patti Porto</dc:creator>
  <dc:description/>
  <dc:language>en-US</dc:language>
  <cp:lastModifiedBy>Patti Porto</cp:lastModifiedBy>
  <dcterms:modified xsi:type="dcterms:W3CDTF">2008-01-24T04:08:14Z</dcterms:modified>
  <cp:revision>31</cp:revision>
  <dc:subject/>
  <dc:title>PowerPoint Presentation</dc:title>
</cp:coreProperties>
</file>